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D5D-58E3-4DA4-8A26-1CD2FC7DD0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D670-4EBE-48A2-AFF8-0127317B5B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F86-8FEC-40B9-B3F7-101941F0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370-64B8-4553-8531-A7C82746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0CC-3C0F-464E-9B4F-29B9D241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A65-8F18-4586-BFDC-F171F46A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BC90-9F7D-45E5-99F5-F3719242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A2CD-200F-44CC-9CD7-3971DF6E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A49A-F9F9-4C0D-9BB3-E7B99911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2187-5240-4254-87B8-85E61799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7018-61C8-4B35-86E6-8691A2EB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1EB-654E-4B4D-894A-D261D999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4F39-DE89-42E7-BA08-54157A7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4E9-5AF2-4577-A032-18825C9F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B7EC-9DF6-4882-B2E2-44B02F2E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F162-065C-4E85-80AA-605A7CAA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68E4-2F07-450A-8EE5-3AB60B36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E607-B7E1-44FC-87E1-A1A404E4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045D-9D6D-4025-A2C7-62A0D031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BFBD9-794D-463D-8F36-7C66191A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F0303-93C4-4666-8220-77A6EBA3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EEFC1-4999-4ABB-8001-E0DD2CA7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7F765-F244-478F-83B0-C135FC0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4DD6D-C475-43AB-A28C-A49B467C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9C3-8287-474C-B434-375F439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87BCD-D7B6-413B-A909-3A121277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F7AEC-382B-4FD6-BB40-05CDBF0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BE51B-C45A-4B8D-BF4D-23EFD09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C496D-9F03-4451-B019-8440804F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29EEC-20CE-4D64-99FE-F808CB8E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67395-9FD5-4607-9216-0FB2AEBD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F26C8-D079-455B-9611-73081BDD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A28D-7F5D-41E2-B128-7F5CC427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6C950-0116-4B84-9634-03E3BBAC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CFA6F-C458-4020-BBE1-49F0346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51DE-7512-4270-BF1B-4738928B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7ECD-46F2-410C-8C85-BDF7A8A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4E66-E027-4836-99F5-2635F98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9608A-75CF-44B8-8F31-C2299738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94BF-2700-4ED0-AF73-F66E76C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1EA9-4E17-484F-B5CD-786291F6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4B3D8-5F65-4B6B-B8E3-E2D011E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E285A-4DAA-4B6A-A410-4FAF67A4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C56CB-BDAB-430A-A83F-674F0C23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7444-1DA5-4B13-BCCF-3CBCCD5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83968-B113-4C9B-833A-262553B0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5F4-2EB6-4020-B117-34DE8B4E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21530-A7EB-43E2-B5F8-E292ABC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2273A-C700-4350-ABEE-1F190ABB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0D23E-48A2-4B17-9EEE-451446AB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F5A64-3324-4BFC-B56F-384458BF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6986E-0FCB-4717-9AD5-E7A3503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E90018-6297-42E7-912C-FA14A27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3D697-AE8F-4474-803E-B368B1A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D1BEA-DE48-4EB6-A073-14B7F7D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6A6D9-E193-4DF5-B762-6A5050A3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7D764-E698-4F84-B481-0569D9E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BB1-C90F-4260-AE24-0856E166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EB897-4A66-4198-B389-F2CBFED7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0D78B-E94A-4AFF-8D7C-401314ED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7FB53-BEE8-4849-B201-69B810F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DC64D-6EF6-434F-B6B8-88D438E8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CAA01-F487-45BA-9C4D-687909CC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CED80-3F65-4F07-A857-48C81A8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25502-D895-47F0-991C-4D9B89E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99CC4-43AC-4D87-9322-6D2E4E95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07C94-3AA6-4402-B5E6-679980F2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A1D6E-59A0-417A-B044-1FB43CF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0BE-85F4-4023-AD54-32B1CDB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6BFABA-862A-4D65-8F62-E10FE076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A5B505-8A07-40AB-84F8-BE89D613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BA3340-7DAF-43AE-A3CD-6D72F52D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845F9-6E9E-4DC0-984F-2941D714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58E31-34A6-4ED6-9FE3-BFE43E9B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582E1-99BC-4EE2-AD2D-154BB6BF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B0054-AB5D-4AAA-AA2B-9B3C11B5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60CFD-F864-47AA-8D3B-EBBE657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ACB4D-6D7B-48E5-8872-7D7480E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A139C-99CF-4390-ADE6-498482FF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244-34E6-4DAC-B8CB-BE16C653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DDB8E-116F-4AC7-9CBF-7AB4E85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F3F80-F1A9-4C7B-8C6B-0349EC96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D147C-0C21-4B54-B127-E05B7AE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243D2-875E-4439-B489-29F64A15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AB041-73D9-4ED2-B73B-54193E62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0E0-514F-4804-9F32-BA34154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46C-3B3E-49C5-95D2-DA5AE5605FC8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E87A-E7BF-4A71-B35B-425079EF2FE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188F-2CB9-4988-8079-AFD71A51091C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34BF-DD6B-4120-92F2-F51C63B51F80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3A7C-54E5-4D3A-84CD-F5E2E126F314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130F-2506-4A1A-A821-BF244CD55C2F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4F6-75F8-4CE1-89B3-BD61F134D3F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500" spc="-1" strike="noStrike">
                <a:solidFill>
                  <a:srgbClr val="575f6d"/>
                </a:solidFill>
                <a:latin typeface="Century Schoolbook"/>
              </a:rPr>
              <a:t>RULES +  LAWS</a:t>
            </a:r>
            <a:r>
              <a:rPr b="1" lang="en-A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071800" y="3643200"/>
            <a:ext cx="64008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Bylaws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Queen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Governmen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Minister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42720" y="713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b0f0"/>
                </a:solidFill>
                <a:latin typeface="Century Schoolbook"/>
              </a:rPr>
              <a:t>BY LAW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142720" y="3928680"/>
            <a:ext cx="700092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Century Schoolbook"/>
              </a:rPr>
              <a:t>A by law is a local government rule of regulation. the cancel   by law stated that all domestic dogs were to be registere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entury Schoolbook"/>
              </a:rPr>
              <a:t>Menu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QUEEN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Schoolbook"/>
              </a:rPr>
              <a:t>The queen is  Australia’s head leader  since 1973 the queen’s formal Australian title has been Elisabeth  the second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GOVERNM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entury Schoolbook"/>
              </a:rPr>
              <a:t>Government is the form or system    by a county or a state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575f6d"/>
                </a:solidFill>
                <a:latin typeface="Century Schoolbook"/>
              </a:rPr>
              <a:t>MINIST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22:38:26Z</dcterms:created>
  <dc:creator>Education</dc:creator>
  <dc:description/>
  <dc:language>en-US</dc:language>
  <cp:lastModifiedBy>Education</cp:lastModifiedBy>
  <dcterms:modified xsi:type="dcterms:W3CDTF">2009-10-15T23:17:43Z</dcterms:modified>
  <cp:revision>4</cp:revision>
  <dc:subject/>
  <dc:title>Rules +  laws</dc:title>
</cp:coreProperties>
</file>